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7A0F840D-1B2E-4F4B-8F4F-7CBDA85D9A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3342CF96-50FF-4563-BADB-B8C809064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4" name="PlaceHolder 1"/>
          <p:cNvSpPr>
            <a:spLocks noGrp="1"/>
          </p:cNvSpPr>
          <p:nvPr>
            <p:ph type="sldImg"/>
          </p:nvPr>
        </p:nvSpPr>
        <p:spPr>
          <a:xfrm>
            <a:off x="1219320" y="685800"/>
            <a:ext cx="4800600" cy="3600360"/>
          </a:xfrm>
          <a:prstGeom prst="rect">
            <a:avLst/>
          </a:prstGeom>
          <a:ln w="0">
            <a:noFill/>
          </a:ln>
        </p:spPr>
      </p:sp>
      <p:sp>
        <p:nvSpPr>
          <p:cNvPr id="85"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7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teaches how and when to use EPA-recognized test kits to determine if lead-based paint affects renovation activities.</a:t>
            </a:r>
            <a:endParaRPr b="0" lang="en-US" sz="10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also teaches the procedure for collecting paint chip samples for lead analysis at a NLLAP-recognized entit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F81E746E-B46C-49C4-8146-E93B632E0D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9" name="PlaceHolder 1"/>
          <p:cNvSpPr>
            <a:spLocks noGrp="1"/>
          </p:cNvSpPr>
          <p:nvPr>
            <p:ph type="sldImg"/>
          </p:nvPr>
        </p:nvSpPr>
        <p:spPr>
          <a:xfrm>
            <a:off x="1297080" y="708120"/>
            <a:ext cx="4800600" cy="3600360"/>
          </a:xfrm>
          <a:prstGeom prst="rect">
            <a:avLst/>
          </a:prstGeom>
          <a:ln w="0">
            <a:noFill/>
          </a:ln>
        </p:spPr>
      </p:sp>
      <p:sp>
        <p:nvSpPr>
          <p:cNvPr id="90" name="PlaceHolder 2"/>
          <p:cNvSpPr>
            <a:spLocks noGrp="1"/>
          </p:cNvSpPr>
          <p:nvPr>
            <p:ph type="body"/>
          </p:nvPr>
        </p:nvSpPr>
        <p:spPr>
          <a:xfrm>
            <a:off x="794880" y="4329000"/>
            <a:ext cx="6202440" cy="510552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D63B1CBB-598C-4BD8-A010-6C1D9F40AF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4" name="PlaceHolder 1"/>
          <p:cNvSpPr>
            <a:spLocks noGrp="1"/>
          </p:cNvSpPr>
          <p:nvPr>
            <p:ph type="sldImg"/>
          </p:nvPr>
        </p:nvSpPr>
        <p:spPr>
          <a:xfrm>
            <a:off x="1297080" y="685800"/>
            <a:ext cx="4645080" cy="3484440"/>
          </a:xfrm>
          <a:prstGeom prst="rect">
            <a:avLst/>
          </a:prstGeom>
          <a:ln w="0">
            <a:noFill/>
          </a:ln>
        </p:spPr>
      </p:sp>
      <p:sp>
        <p:nvSpPr>
          <p:cNvPr id="95" name="PlaceHolder 2"/>
          <p:cNvSpPr>
            <a:spLocks noGrp="1"/>
          </p:cNvSpPr>
          <p:nvPr>
            <p:ph type="body"/>
          </p:nvPr>
        </p:nvSpPr>
        <p:spPr>
          <a:xfrm>
            <a:off x="477360" y="4249440"/>
            <a:ext cx="6280200" cy="4800600"/>
          </a:xfrm>
          <a:prstGeom prst="rect">
            <a:avLst/>
          </a:prstGeom>
          <a:noFill/>
          <a:ln w="0">
            <a:noFill/>
          </a:ln>
        </p:spPr>
        <p:txBody>
          <a:bodyPr lIns="96480" rIns="96480" tIns="48240" bIns="48240" anchor="t">
            <a:noAutofit/>
          </a:bodyPr>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collected by the Certified Renovator,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lvl="1" marL="343080" indent="0">
              <a:spcBef>
                <a:spcPts val="125"/>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9"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87CBC4B9-3378-48B5-BD7E-BC5128FAE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5A1BAC92-2665-41C7-A7E1-F8948AFE58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B8357B33-0FF5-423A-B8BC-44632AC20F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4D7CC5AD-CE5A-494B-B7AF-A28541AD70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14265-321F-4F4F-8123-48961F829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3061E-CFD2-4088-BFB2-DBBB72D5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7FBB4-DE69-4D55-8CB8-A00CA701A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8B638-0E51-4D21-AA59-6FC425F82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86D3-61DC-48A8-8D72-18404B7B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31D1-3E4E-4AAE-BEB5-106F739EB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7834-BEA1-4BD7-886F-38263C28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85781-4DC1-4CE4-A5CC-10BD59EA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44A2D-0094-441C-9C1F-9C48DCAE4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6777-8EE0-4D9C-A7CB-2398D377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C8B5-4EF7-4922-A59C-6EF7AAF1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44D9-EF3A-420A-AA75-4E96D6A3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E9DF4A8-94B0-446A-8960-C661CCB896A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59BC4EB-BE21-419E-A85F-315D354185E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2: Testing for Lead-based Paint</a:t>
            </a:r>
            <a:endParaRPr b="1" lang="en-US" sz="36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Overview</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module teaches you:</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test for lead-bas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o use EPA-recognized test kits to check for lead-bas</a:t>
            </a:r>
            <a:r>
              <a:rPr b="1" lang="en-US" sz="2800" spc="-1" strike="noStrike">
                <a:solidFill>
                  <a:srgbClr val="000099"/>
                </a:solidFill>
                <a:latin typeface="Arial"/>
              </a:rPr>
              <a:t>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collect a paint chip sample for lead analysis at a NLLAP-recognized entit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D4C249C-1C16-4696-BBD8-73FE18CA29C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to Test for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228240" y="1676160"/>
            <a:ext cx="8458200" cy="990360"/>
          </a:xfrm>
          <a:prstGeom prst="rect">
            <a:avLst/>
          </a:prstGeom>
          <a:noFill/>
          <a:ln w="0">
            <a:noFill/>
          </a:ln>
        </p:spPr>
        <p:txBody>
          <a:bodyPr anchor="t">
            <a:normAutofit fontScale="74000"/>
          </a:bodyPr>
          <a:p>
            <a:pPr marL="253800" indent="-2538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400" spc="-1" strike="noStrike">
              <a:solidFill>
                <a:srgbClr val="000099"/>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graphicFrame>
        <p:nvGraphicFramePr>
          <p:cNvPr id="60" name=""/>
          <p:cNvGraphicFramePr/>
          <p:nvPr/>
        </p:nvGraphicFramePr>
        <p:xfrm>
          <a:off x="380880" y="3048120"/>
          <a:ext cx="8382240" cy="25700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07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ED57FCF-14DC-44D7-AD17-DCCA033D38E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64"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A972BFF-6ADC-4D83-BA74-1DE946DCBA0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68" name=""/>
          <p:cNvSpPr txBox="1"/>
          <p:nvPr/>
        </p:nvSpPr>
        <p:spPr>
          <a:xfrm>
            <a:off x="372600" y="185724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70"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2"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7D930F42-A646-44FB-A187-15B85F0D8E8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3521834-0B65-463F-A7BB-97FC0B1E7F1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6"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FA3CFDC9-51F7-4DA2-A6C3-C808245B112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0" name=""/>
          <p:cNvSpPr txBox="1"/>
          <p:nvPr/>
        </p:nvSpPr>
        <p:spPr>
          <a:xfrm>
            <a:off x="0" y="2133720"/>
            <a:ext cx="91440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is to teach Certified Renovators how to correctly collect paint chip samples from components affected by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3:34Z</dcterms:modified>
  <cp:revision>283</cp:revision>
  <dc:subject/>
  <dc:title>Module 2: Testing for Lead-base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