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2252-AC36-4334-8C73-1CEC4114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FFA-8584-476B-801B-FBE9107F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9A5-5743-4AF9-B1F1-A7CF494B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6006-1FCE-4CF3-AA76-317A4C74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28A-5945-4594-BD8B-E21BE95E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7560-4E0C-4C19-8B4E-FA316B1A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B6B4-588B-445D-B410-DAA32728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A94D-70B5-4C3B-93A0-FA1733A6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ACA8-4C5B-4107-8F4D-EAB0B9E7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4F74-1D48-47DE-B3CA-EDABDACA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3E0-E70A-4987-8C1D-540D9F56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4DB-1CE2-43F0-876D-4E702C6D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CD9D-7D5A-4C4F-9E32-8FEAA2E88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52640" y="976320"/>
            <a:ext cx="6686280" cy="3354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4314960" y="856800"/>
            <a:ext cx="647640" cy="171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590400"/>
            <a:ext cx="34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al DNAPL emplaced @ Sn =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3520" y="561960"/>
            <a:ext cx="2962080" cy="3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4971960"/>
            <a:ext cx="649584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5040" y="5162400"/>
            <a:ext cx="650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4 DEFINITION - Dissolution of residual DN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stress period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= 0 to 800,0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61920" y="5972040"/>
            <a:ext cx="43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figure is the Initial Condition for DNAPL (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934400" y="3814920"/>
            <a:ext cx="533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52640" y="976320"/>
            <a:ext cx="6676920" cy="334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8720" y="4971960"/>
            <a:ext cx="649584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5040" y="5162400"/>
            <a:ext cx="650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4 DEFINITION - Dissolution of residual DN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stress period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= 0 to 800,0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61920" y="6048360"/>
            <a:ext cx="35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DNAPL distribution solution @ 1065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934400" y="3814920"/>
            <a:ext cx="533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62000" y="957240"/>
            <a:ext cx="6676920" cy="3363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57320" y="5619600"/>
            <a:ext cx="390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is the Dissolved species solution @ 1065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39680" y="526716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796160" y="3790800"/>
            <a:ext cx="1133640" cy="2171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305920" y="3800520"/>
            <a:ext cx="618840" cy="1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-204480" y="279504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 =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6972120" y="224712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ve flux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2T13:38:36Z</dcterms:created>
  <dc:creator>guarnjo1</dc:creator>
  <dc:description/>
  <dc:language>en-US</dc:language>
  <cp:lastModifiedBy>guarnjo1</cp:lastModifiedBy>
  <dcterms:modified xsi:type="dcterms:W3CDTF">2000-08-02T13:40:00Z</dcterms:modified>
  <cp:revision>2</cp:revision>
  <dc:subject/>
  <dc:title>No Slide Title</dc:title>
</cp:coreProperties>
</file>