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84C-E2A6-4A32-A952-337AB17D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937-52F8-4855-999C-56724046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B90-C942-443A-A269-A71829DE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704-DCF4-45AF-90A5-9EF19A31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A59-CF6F-4CF6-BD49-9B8B48C2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597-9454-42FF-B3B7-8AA4F7B4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613-F55A-45A4-88A9-ADE0EFA7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9AD-E6E5-4DCD-8422-533D1ED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1B1-936B-4424-8712-58FDDD8E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B87-5E6B-4973-86B1-519F977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5B5-ED38-497F-A6A2-AA24E62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BE2-9372-4CF1-AD39-F98BC1F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6D60-B008-4A44-B3FD-378BB8D0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ntration = 1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71680"/>
            <a:ext cx="296244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Transport of a dense miscible liquid [density = 2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1920" y="5972040"/>
            <a:ext cx="51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miscible compound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629400" cy="334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density-driven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ncentration distribution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332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3:03:22Z</dcterms:modified>
  <cp:revision>4</cp:revision>
  <dc:subject/>
  <dc:title>No Slide Title</dc:title>
</cp:coreProperties>
</file>