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CEAD7-D108-4B84-9C30-A3784F6F5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2F2BE-6866-4DAB-9746-AAEB5FBBA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BBEF2-F469-4E91-BC1E-38B87DC01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F0A54-77FA-468F-905C-01DB6D860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F2DFB-9933-43EF-AD92-2095C955C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579FC-BB3A-4F89-8B16-D808BB549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7FE7A-83B7-4064-86FB-2DFE97565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E6C18-9244-4477-ACC2-C06D110A1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137DD-3438-4C6F-A28B-84BDF604B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955A4-64F0-449E-A3A6-C51B356A7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560E8-C2E1-4118-A430-CE3EF0BAF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8395E-1A7B-46C9-8C73-27322F0FC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CB086-A751-4493-A09E-F95BDBBDA2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33560" y="1224000"/>
            <a:ext cx="6696000" cy="33814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209680" y="4591080"/>
            <a:ext cx="124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 f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47600" y="4600440"/>
            <a:ext cx="6705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038240" y="1238400"/>
            <a:ext cx="6715080" cy="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943360" y="971640"/>
            <a:ext cx="42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en to atmospheric pressure + rainfall infiltration = 40 in/y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038240" y="1247760"/>
            <a:ext cx="0" cy="33526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63040" y="2409840"/>
            <a:ext cx="0" cy="217152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6200000">
            <a:off x="179640" y="248580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flow bound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6200000">
            <a:off x="6905520" y="3171240"/>
            <a:ext cx="209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head =  -120 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162080" y="5067360"/>
            <a:ext cx="6496200" cy="150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38400" y="5200560"/>
            <a:ext cx="6505560" cy="11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171360"/>
                <a:tab algn="l" pos="343080"/>
                <a:tab algn="l" pos="514440"/>
                <a:tab algn="l" pos="685800"/>
                <a:tab algn="l" pos="857160"/>
                <a:tab algn="l" pos="1028880"/>
                <a:tab algn="l" pos="1200240"/>
                <a:tab algn="l" pos="1371600"/>
                <a:tab algn="l" pos="1542960"/>
                <a:tab algn="l" pos="1714680"/>
                <a:tab algn="l" pos="1886040"/>
                <a:tab algn="l" pos="2057400"/>
                <a:tab algn="l" pos="2228760"/>
                <a:tab algn="l" pos="2400480"/>
                <a:tab algn="l" pos="2571840"/>
                <a:tab algn="l" pos="2743200"/>
                <a:tab algn="l" pos="2914560"/>
                <a:tab algn="l" pos="3086280"/>
                <a:tab algn="l" pos="3257640"/>
                <a:tab algn="l" pos="3429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BLEM 6 DEFINITION - Air-water extraction with air-water transpo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171360"/>
                <a:tab algn="l" pos="343080"/>
                <a:tab algn="l" pos="514440"/>
                <a:tab algn="l" pos="685800"/>
                <a:tab algn="l" pos="857160"/>
                <a:tab algn="l" pos="1028880"/>
                <a:tab algn="l" pos="1200240"/>
                <a:tab algn="l" pos="1371600"/>
                <a:tab algn="l" pos="1542960"/>
                <a:tab algn="l" pos="1714680"/>
                <a:tab algn="l" pos="1886040"/>
                <a:tab algn="l" pos="2057400"/>
                <a:tab algn="l" pos="2228760"/>
                <a:tab algn="l" pos="2400480"/>
                <a:tab algn="l" pos="2571840"/>
                <a:tab algn="l" pos="2743200"/>
                <a:tab algn="l" pos="2914560"/>
                <a:tab algn="l" pos="3086280"/>
                <a:tab algn="l" pos="3257640"/>
                <a:tab algn="l" pos="3429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stress periods -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= 0 to 50000s - set up flow 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171360"/>
                <a:tab algn="l" pos="343080"/>
                <a:tab algn="l" pos="514440"/>
                <a:tab algn="l" pos="685800"/>
                <a:tab algn="l" pos="857160"/>
                <a:tab algn="l" pos="1028880"/>
                <a:tab algn="l" pos="1200240"/>
                <a:tab algn="l" pos="1371600"/>
                <a:tab algn="l" pos="1542960"/>
                <a:tab algn="l" pos="1714680"/>
                <a:tab algn="l" pos="1886040"/>
                <a:tab algn="l" pos="2057400"/>
                <a:tab algn="l" pos="2228760"/>
                <a:tab algn="l" pos="2400480"/>
                <a:tab algn="l" pos="2571840"/>
                <a:tab algn="l" pos="2743200"/>
                <a:tab algn="l" pos="2914560"/>
                <a:tab algn="l" pos="3086280"/>
                <a:tab algn="l" pos="3257640"/>
                <a:tab algn="l" pos="3429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= 50000s  to 200000s - water and gas phase transport with flow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171360"/>
                <a:tab algn="l" pos="343080"/>
                <a:tab algn="l" pos="514440"/>
                <a:tab algn="l" pos="685800"/>
                <a:tab algn="l" pos="857160"/>
                <a:tab algn="l" pos="1028880"/>
                <a:tab algn="l" pos="1200240"/>
                <a:tab algn="l" pos="1371600"/>
                <a:tab algn="l" pos="1542960"/>
                <a:tab algn="l" pos="1714680"/>
                <a:tab algn="l" pos="1886040"/>
                <a:tab algn="l" pos="2057400"/>
                <a:tab algn="l" pos="2228760"/>
                <a:tab algn="l" pos="2400480"/>
                <a:tab algn="l" pos="2571840"/>
                <a:tab algn="l" pos="2743200"/>
                <a:tab algn="l" pos="2914560"/>
                <a:tab algn="l" pos="3086280"/>
                <a:tab algn="l" pos="3257640"/>
                <a:tab algn="l" pos="3429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&gt; 200000s - increase well rate and turn off dissolved concentration sour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0520" y="6219720"/>
            <a:ext cx="42004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This figure shows the S</a:t>
            </a:r>
            <a:r>
              <a:rPr b="0" lang="en-US" sz="1400" spc="-1" strike="noStrike" baseline="-25000">
                <a:solidFill>
                  <a:srgbClr val="3333cc"/>
                </a:solidFill>
                <a:latin typeface="Times New Roman"/>
              </a:rPr>
              <a:t>W</a:t>
            </a: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 and V</a:t>
            </a:r>
            <a:r>
              <a:rPr b="0" lang="en-US" sz="1400" spc="-1" strike="noStrike" baseline="-25000">
                <a:solidFill>
                  <a:srgbClr val="3333cc"/>
                </a:solidFill>
                <a:latin typeface="Times New Roman"/>
              </a:rPr>
              <a:t>W</a:t>
            </a: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 solution @ 50000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961920" y="3000240"/>
            <a:ext cx="152640" cy="695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038240" y="923760"/>
            <a:ext cx="0" cy="2772000"/>
          </a:xfrm>
          <a:prstGeom prst="line">
            <a:avLst/>
          </a:prstGeom>
          <a:ln w="381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753320" y="1257480"/>
            <a:ext cx="9720" cy="1056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42880" y="1257480"/>
            <a:ext cx="0" cy="3295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16200000">
            <a:off x="104040" y="2886120"/>
            <a:ext cx="8384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 me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028880" y="4915080"/>
            <a:ext cx="6676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562200" y="4743360"/>
            <a:ext cx="10764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 me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914400" y="752400"/>
            <a:ext cx="19432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Q = 1.2 gpm (T = 0 to 200000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= 1.67 gpm (T &gt; 200000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rot="16200000">
            <a:off x="7247160" y="167616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f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162080" y="276120"/>
            <a:ext cx="637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LOW BOUNDARY CONDITIONS AND SOLUTION AT T = 50000 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8067600" y="1047600"/>
            <a:ext cx="495360" cy="18100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7915320" y="819000"/>
            <a:ext cx="8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ater sa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062000" y="1233360"/>
            <a:ext cx="6667560" cy="33670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038240" y="1238400"/>
            <a:ext cx="6715080" cy="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114640" y="885960"/>
            <a:ext cx="455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rd-type for the gas species (boundary layer = 0.5 c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038240" y="1247760"/>
            <a:ext cx="0" cy="33526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763040" y="2409840"/>
            <a:ext cx="0" cy="217152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rot="16200000">
            <a:off x="7086600" y="2985480"/>
            <a:ext cx="20955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ubility limit for water species = 1100 ppm until 200000s when set to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895320" y="4962600"/>
            <a:ext cx="6848640" cy="1428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923760" y="4981680"/>
            <a:ext cx="7067880" cy="14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171360"/>
                <a:tab algn="l" pos="343080"/>
                <a:tab algn="l" pos="514440"/>
                <a:tab algn="l" pos="685800"/>
                <a:tab algn="l" pos="857160"/>
                <a:tab algn="l" pos="1028880"/>
                <a:tab algn="l" pos="1200240"/>
                <a:tab algn="l" pos="1371600"/>
                <a:tab algn="l" pos="1542960"/>
                <a:tab algn="l" pos="1714680"/>
                <a:tab algn="l" pos="1886040"/>
                <a:tab algn="l" pos="2057400"/>
                <a:tab algn="l" pos="2228760"/>
                <a:tab algn="l" pos="2400480"/>
                <a:tab algn="l" pos="2571840"/>
                <a:tab algn="l" pos="2743200"/>
                <a:tab algn="l" pos="2914560"/>
                <a:tab algn="l" pos="3086280"/>
                <a:tab algn="l" pos="3257640"/>
                <a:tab algn="l" pos="3429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BLEM 6 Transport parameter DEFINI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171360"/>
                <a:tab algn="l" pos="343080"/>
                <a:tab algn="l" pos="514440"/>
                <a:tab algn="l" pos="685800"/>
                <a:tab algn="l" pos="857160"/>
                <a:tab algn="l" pos="1028880"/>
                <a:tab algn="l" pos="1200240"/>
                <a:tab algn="l" pos="1371600"/>
                <a:tab algn="l" pos="1542960"/>
                <a:tab algn="l" pos="1714680"/>
                <a:tab algn="l" pos="1886040"/>
                <a:tab algn="l" pos="2057400"/>
                <a:tab algn="l" pos="2228760"/>
                <a:tab algn="l" pos="2400480"/>
                <a:tab algn="l" pos="2571840"/>
                <a:tab algn="l" pos="2743200"/>
                <a:tab algn="l" pos="2914560"/>
                <a:tab algn="l" pos="3086280"/>
                <a:tab algn="l" pos="3257640"/>
                <a:tab algn="l" pos="3429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stress periods -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= 0 to 50000s - no contaminant m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171360"/>
                <a:tab algn="l" pos="343080"/>
                <a:tab algn="l" pos="514440"/>
                <a:tab algn="l" pos="685800"/>
                <a:tab algn="l" pos="857160"/>
                <a:tab algn="l" pos="1028880"/>
                <a:tab algn="l" pos="1200240"/>
                <a:tab algn="l" pos="1371600"/>
                <a:tab algn="l" pos="1542960"/>
                <a:tab algn="l" pos="1714680"/>
                <a:tab algn="l" pos="1886040"/>
                <a:tab algn="l" pos="2057400"/>
                <a:tab algn="l" pos="2228760"/>
                <a:tab algn="l" pos="2400480"/>
                <a:tab algn="l" pos="2571840"/>
                <a:tab algn="l" pos="2743200"/>
                <a:tab algn="l" pos="2914560"/>
                <a:tab algn="l" pos="3086280"/>
                <a:tab algn="l" pos="3257640"/>
                <a:tab algn="l" pos="3429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= 50000s  to 200000s - constant water concentration (1100 ppm) enters right bound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171360"/>
                <a:tab algn="l" pos="343080"/>
                <a:tab algn="l" pos="514440"/>
                <a:tab algn="l" pos="685800"/>
                <a:tab algn="l" pos="857160"/>
                <a:tab algn="l" pos="1028880"/>
                <a:tab algn="l" pos="1200240"/>
                <a:tab algn="l" pos="1371600"/>
                <a:tab algn="l" pos="1542960"/>
                <a:tab algn="l" pos="1714680"/>
                <a:tab algn="l" pos="1886040"/>
                <a:tab algn="l" pos="2057400"/>
                <a:tab algn="l" pos="2228760"/>
                <a:tab algn="l" pos="2400480"/>
                <a:tab algn="l" pos="2571840"/>
                <a:tab algn="l" pos="2743200"/>
                <a:tab algn="l" pos="2914560"/>
                <a:tab algn="l" pos="3086280"/>
                <a:tab algn="l" pos="3257640"/>
                <a:tab algn="l" pos="3429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&gt; 200000s - turn off dissolved concentration sour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171360"/>
                <a:tab algn="l" pos="343080"/>
                <a:tab algn="l" pos="514440"/>
                <a:tab algn="l" pos="685800"/>
                <a:tab algn="l" pos="857160"/>
                <a:tab algn="l" pos="1028880"/>
                <a:tab algn="l" pos="1200240"/>
                <a:tab algn="l" pos="1371600"/>
                <a:tab algn="l" pos="1542960"/>
                <a:tab algn="l" pos="1714680"/>
                <a:tab algn="l" pos="1886040"/>
                <a:tab algn="l" pos="2057400"/>
                <a:tab algn="l" pos="2228760"/>
                <a:tab algn="l" pos="2400480"/>
                <a:tab algn="l" pos="2571840"/>
                <a:tab algn="l" pos="2743200"/>
                <a:tab algn="l" pos="2914560"/>
                <a:tab algn="l" pos="3086280"/>
                <a:tab algn="l" pos="3257640"/>
                <a:tab algn="l" pos="3429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961920" y="3000240"/>
            <a:ext cx="152640" cy="695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1038240" y="1028880"/>
            <a:ext cx="0" cy="2666880"/>
          </a:xfrm>
          <a:prstGeom prst="line">
            <a:avLst/>
          </a:prstGeom>
          <a:ln w="381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753320" y="1257480"/>
            <a:ext cx="9720" cy="1056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333440" y="457200"/>
            <a:ext cx="637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NSPORT BOUNDARY CONDITIONS AND SOLUTION AT T = 125000 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781760" y="571680"/>
            <a:ext cx="1076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nc [g/cm</a:t>
            </a:r>
            <a:r>
              <a:rPr b="0" lang="en-US" sz="1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019160" y="4581360"/>
            <a:ext cx="6781680" cy="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7934400" y="824040"/>
            <a:ext cx="857160" cy="15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2190600" y="1690560"/>
            <a:ext cx="4762800" cy="355284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7210440" y="2000160"/>
            <a:ext cx="495360" cy="180972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7058160" y="1771560"/>
            <a:ext cx="8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ater sa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24000" y="1209600"/>
            <a:ext cx="60483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imation of the S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solution (double-click on figur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2190600" y="1652760"/>
            <a:ext cx="4762800" cy="35524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7162920" y="2185920"/>
            <a:ext cx="857160" cy="151452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7058160" y="1895400"/>
            <a:ext cx="1076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nc [g/cm</a:t>
            </a:r>
            <a:r>
              <a:rPr b="0" lang="en-US" sz="1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124000" y="1209600"/>
            <a:ext cx="60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imation of the dissolved water concentration solution (double-click on figur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2190600" y="1652760"/>
            <a:ext cx="4762800" cy="35524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7205760" y="2038320"/>
            <a:ext cx="904680" cy="16574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115040" y="1752480"/>
            <a:ext cx="1076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nc [g/cm</a:t>
            </a:r>
            <a:r>
              <a:rPr b="0" lang="en-US" sz="1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124000" y="1209600"/>
            <a:ext cx="60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imation of the vapor concentration solution (double-click on figur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21:40:30Z</dcterms:created>
  <dc:creator>guarnjo1</dc:creator>
  <dc:description/>
  <dc:language>en-US</dc:language>
  <cp:lastModifiedBy>guarnjo1</cp:lastModifiedBy>
  <dcterms:modified xsi:type="dcterms:W3CDTF">2000-09-27T12:47:57Z</dcterms:modified>
  <cp:revision>12</cp:revision>
  <dc:subject/>
  <dc:title>No Slide Title</dc:title>
</cp:coreProperties>
</file>