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90E-50F6-4D75-BE35-5387CFC6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E31-B740-456E-B97F-AE380E7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AEE-1E7F-47DD-9C4E-0E83D3AB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26D-7658-4935-902C-DDC13284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0AE-A882-4E2B-B991-216E7405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FEA-DC6F-4A88-B293-FC3C2970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EB4-952F-4D9C-98B2-2AE109DC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891-13E4-4897-9405-A645669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261-36C3-4DBE-9923-074F978E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9CB-9FF3-4EAB-AE52-FF1F779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ED7-843E-40D3-810A-01BE620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4E3-DFE1-49DA-820F-DFF01617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B47-2371-47D0-A6F5-EDD8B3BD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969840"/>
            <a:ext cx="6677280" cy="33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772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22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180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70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6716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3960" y="211608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228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852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81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5040" y="5162400"/>
            <a:ext cx="6505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 DEFINITION - DNAPL flood, redistribution, and dis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stress periods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0 to 100s - inject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&gt; 100s - remove source, allow DNAPL to redistribute/dis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DNAPL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57320" y="976320"/>
            <a:ext cx="669132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70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23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15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640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68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3680" y="2125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82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960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096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240" y="5572080"/>
            <a:ext cx="35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225000" y="2606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05440" y="4443480"/>
            <a:ext cx="1000440" cy="216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05840" y="4429080"/>
            <a:ext cx="5047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7480" y="52768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4440" y="4438800"/>
            <a:ext cx="475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57320" y="985680"/>
            <a:ext cx="6696000" cy="335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5591160"/>
            <a:ext cx="31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NAPL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0" y="9907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05880" y="3824280"/>
            <a:ext cx="1000080" cy="216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05920" y="3800520"/>
            <a:ext cx="476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85400" y="2490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94368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10-07-23T12:56:07Z</dcterms:modified>
  <cp:revision>7</cp:revision>
  <dc:subject/>
  <dc:title>No Slide Title</dc:title>
</cp:coreProperties>
</file>