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E0AA-5D39-4440-A62B-09C73D141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BE25-82F9-45B5-B703-D6553AAF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5CBA-143E-4E13-850A-01C6CC9C0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72AB-9E12-4419-B517-60856E5C1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0D40-1521-485A-A202-3CFDA3FE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3098-463B-4A5B-861F-262A58DB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53E4-DBFC-4B88-B196-B90B13CA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3C21-0DEB-44DF-AA03-0FCC7897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6461-2A5D-411E-992A-1B4C92BD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DE80-0AE8-4FA1-B727-C4589807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E5EA-5DCA-4FD3-9397-3DDB8180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6B3C-B98A-432B-93EE-D0BEB1D5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B05F-E2D8-4168-865A-2D6C9B91B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52640" y="976320"/>
            <a:ext cx="6686280" cy="3354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591000" y="462924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 cm lo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4314960" y="856800"/>
            <a:ext cx="647640" cy="171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590400"/>
            <a:ext cx="34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idual DNAPL emplaced @ Sn = 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43520" y="561960"/>
            <a:ext cx="2962080" cy="34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432432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47600" y="4334040"/>
            <a:ext cx="6705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38240" y="971640"/>
            <a:ext cx="671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00280" y="69516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38240" y="981000"/>
            <a:ext cx="0" cy="33530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753320" y="971640"/>
            <a:ext cx="9720" cy="33433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-226800" y="26074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d =  static + 2.5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6953040" y="20566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d =  st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71440" y="3419640"/>
            <a:ext cx="1695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66840" y="3162240"/>
            <a:ext cx="150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W flow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-93600" y="258768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 cm de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8720" y="4971960"/>
            <a:ext cx="6495840" cy="141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05040" y="5162400"/>
            <a:ext cx="65055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LEM 4 DEFINITION - Dissolution of residual DN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stress period 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= 0 to 800,000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61920" y="5972040"/>
            <a:ext cx="43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This figure is the Initial Condition for DNAPL (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934400" y="3814920"/>
            <a:ext cx="5331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52640" y="976320"/>
            <a:ext cx="6676920" cy="3349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591000" y="462924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 cm lo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432432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47600" y="4334040"/>
            <a:ext cx="6705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38240" y="971640"/>
            <a:ext cx="671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00280" y="69516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38240" y="981000"/>
            <a:ext cx="0" cy="33530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753320" y="971640"/>
            <a:ext cx="9720" cy="33433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-226800" y="26074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d =  static + 2.5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6953040" y="20566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d =  st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71440" y="3419640"/>
            <a:ext cx="1695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66840" y="3162240"/>
            <a:ext cx="150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W flow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6200000">
            <a:off x="-93600" y="258768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 cm de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28720" y="4971960"/>
            <a:ext cx="6495840" cy="141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05040" y="5162400"/>
            <a:ext cx="65055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LEM 4 DEFINITION - Dissolution of residual DN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stress period 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= 0 to 800,000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61920" y="6048360"/>
            <a:ext cx="352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DNAPL distribution solution @ 106500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934400" y="3814920"/>
            <a:ext cx="5331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062000" y="957240"/>
            <a:ext cx="6676920" cy="3363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591000" y="462924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 cm lo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57320" y="5619600"/>
            <a:ext cx="390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This is the Dissolved species solution @ 106500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432432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47600" y="4334040"/>
            <a:ext cx="6705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38240" y="971640"/>
            <a:ext cx="671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00280" y="69516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38240" y="981000"/>
            <a:ext cx="0" cy="33530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53320" y="971640"/>
            <a:ext cx="9720" cy="33433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71440" y="3419640"/>
            <a:ext cx="1695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66840" y="3162240"/>
            <a:ext cx="150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W flow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6200000">
            <a:off x="-93600" y="258768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 cm de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39680" y="5267160"/>
            <a:ext cx="11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LEM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796160" y="3790800"/>
            <a:ext cx="1133640" cy="2171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305920" y="3800520"/>
            <a:ext cx="618840" cy="10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-204480" y="279504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ion =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6972120" y="224712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usive flux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05920" y="3733920"/>
            <a:ext cx="476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/cm</a:t>
            </a:r>
            <a:r>
              <a:rPr b="0" lang="en-US" sz="9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2T13:38:36Z</dcterms:created>
  <dc:creator>guarnjo1</dc:creator>
  <dc:description/>
  <dc:language>en-US</dc:language>
  <cp:lastModifiedBy>guarnjo1</cp:lastModifiedBy>
  <dcterms:modified xsi:type="dcterms:W3CDTF">2010-07-23T12:56:50Z</dcterms:modified>
  <cp:revision>3</cp:revision>
  <dc:subject/>
  <dc:title>No Slide Title</dc:title>
</cp:coreProperties>
</file>